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19D-0146-4A16-A136-DDF0B153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6D6-BAEA-45A4-8A11-5AEA5179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0D2-A938-4765-A98E-8F7556E3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73A-A0FF-4BBB-9EEE-AF03CAB6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0C8-0AA8-4F5A-833D-0F753E02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22C-2FC8-4D64-85C6-6C4B7B41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623-2D1D-49DA-8494-F833B3C5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6CA-57D9-4A00-AABF-349041AF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564-6F7C-4F7F-8268-E852B7EC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191-72B5-440E-9102-118348B7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B81-A233-47FE-84BE-BB36A12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7CD-3758-4B61-8DD9-2B62803C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7184-8361-4CF0-8473-59EEF9E8C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35053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533520" y="54100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Inform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6:44Z</dcterms:created>
  <dc:creator>nline</dc:creator>
  <dc:description/>
  <dc:language>en-US</dc:language>
  <cp:lastModifiedBy>nline</cp:lastModifiedBy>
  <dcterms:modified xsi:type="dcterms:W3CDTF">2009-03-30T16:34:24Z</dcterms:modified>
  <cp:revision>1</cp:revision>
  <dc:subject/>
  <dc:title>Slide 1</dc:title>
</cp:coreProperties>
</file>